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0920" cy="369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09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3849840" y="937872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3364E-1E8C-42A7-8C9A-8EB163D45E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3849840" y="9379080"/>
            <a:ext cx="2938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8BFE8-C9CD-4A21-9281-D02C5EB117A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79" name="Text Box 2"/>
          <p:cNvSpPr/>
          <p:nvPr/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01892-40FB-4430-9E79-FB80074CBC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895C1-D4B1-4CE7-9712-2858B500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0FB40-BC0E-4336-8D47-26588CBA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0C841-50DC-408C-BDA1-B4D9DE18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446BB-CDFF-4BFE-BB82-84CAF481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8CFA3-E9B2-41C1-B2A5-B7BD3C34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BC75D-545C-4A7C-ADC0-4E6C524F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3666C-9A78-43D9-92E9-24DB762D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63FE4-549A-4215-8F97-C6C46D63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76343-1609-4842-8A65-66947E18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F682E-B065-410B-801B-330F1E1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9E420-8F65-4DFB-BCAE-C7369EF2AA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D47E-EC58-443B-8752-ED21CE0488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B429-892E-44B5-8C3A-88199AC0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4716-889C-4A07-A987-38BA9F65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594B-487D-4EA8-9D1D-F55B7D7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D9E9-3686-4868-A866-BAE2CA1F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7E7C-D411-4730-902B-99FDA09E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D7D0-1300-4E55-8A03-8385732B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1482-EBBC-4D33-92B6-CBFC55EC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D255-F27D-485C-A18D-79E36F07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1F81-05D3-4791-91A4-081610AD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CCE3-679D-45B9-8F95-BBD77729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E720-5BAB-4756-AAFC-512AC5A1D3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0EC3B-D482-4013-A45D-F3AF372F8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C22B6-69CF-4CB8-A3EF-550A7144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BE64C-76B1-40BF-8A4B-63AB0B9A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0DF1E-2358-4B50-9E92-49DDE9E4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6E8C5-7513-47AE-BFC3-5D60C87A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C4CA7-034B-4925-B92E-3264B74E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221D6-4246-49CD-A137-423427A7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7928B-49EE-45C8-895C-735B4521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75529-9F67-47AF-8897-31000414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E987A-7CC5-48F2-BD11-61F86038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454BF-FAE1-440E-9B81-90C8FABD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13676-F311-4034-A440-DE71975090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1B77C-32CC-4283-A156-E3FE95A948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BF060-C5DD-4701-9275-58A1B144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45349A-B009-46AE-BF87-3EF74C59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2E7E3-EAA9-465A-A543-2C4121AA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EF165-1A92-434C-98E9-D4948277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DBFDC-8EDF-4791-A0E4-76E009F9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41D5EC-B446-4345-AF52-C55C5943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5F18B-F204-4CEC-B8F4-D96C849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3DB92F-588D-442C-8ED0-34E12C2B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0D649-29E6-41A9-BAC8-94338E1E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B1341-ECB2-4783-9800-52C2C4E0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7979F-F481-41F8-80E0-8E07857223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AACE2-CD3F-4F2E-861E-B61503004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4606-C2FC-4187-9BD3-693BB16B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C5F5-9EBC-4B53-A1E5-851D7CCE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32B9D-BBE4-40A8-BA91-5271DE27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2E8B-4716-47E9-A952-617DC56E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4BCD6-DEEC-4F2B-9F66-E638D741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2F6D-2CAA-46B3-8595-280F6F52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7F5A-C38C-4F34-A54E-3A2710DB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89969-DBEA-48B3-83EF-AD433F03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E98E-368C-4EB7-BF8A-BFA3FDA2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9745E-C05B-41B4-8D17-DB1EE65A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CCC3-5C8D-4578-AF8F-1DC0C40C3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85282-17F5-4E56-9E09-5092AB5E3880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E617B-817F-48BF-92E9-691D21B91395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3166C-7220-4FEC-8CB9-64490BDBBBD1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D055F-245C-4B25-86BC-574A3BC287D7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288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0" y="3867120"/>
            <a:ext cx="9144000" cy="29908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9144000" h="2990850">
                <a:moveTo>
                  <a:pt x="0" y="0"/>
                </a:moveTo>
                <a:lnTo>
                  <a:pt x="25400" y="0"/>
                </a:lnTo>
                <a:lnTo>
                  <a:pt x="25400" y="8309"/>
                </a:lnTo>
                <a:lnTo>
                  <a:pt x="0" y="830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0" y="0"/>
            <a:ext cx="9144000" cy="38671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867120"/>
              <a:gd name="textAreaBottom" fmla="*/ 3867480 h 3867120"/>
            </a:gdLst>
            <a:ahLst/>
            <a:rect l="textAreaLeft" t="textAreaTop" r="textAreaRight" b="textAreaBottom"/>
            <a:pathLst>
              <a:path w="9144000" h="3867150">
                <a:moveTo>
                  <a:pt x="0" y="0"/>
                </a:moveTo>
                <a:lnTo>
                  <a:pt x="25400" y="0"/>
                </a:lnTo>
                <a:lnTo>
                  <a:pt x="25400" y="10741"/>
                </a:lnTo>
                <a:lnTo>
                  <a:pt x="0" y="1074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0" y="2652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33640" y="2172960"/>
            <a:ext cx="59580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22120" y="4606560"/>
            <a:ext cx="596268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1D58B-D5DC-4E45-92DB-42B2E7A8FEDF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5140B-3320-44D4-9A21-635532C33B5C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3CDCE-F03F-441A-8D6D-B25D8434FDD5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2D2A5-A361-458B-9048-04CB0B30DDFF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9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79F56-F05E-414A-B66E-0A4641EC54B0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0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E758C-9224-4BE3-91D4-ACDF388B737A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1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CF07D-FA18-4F7C-A9D7-286AEB26CF45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E6650-9427-4D5A-BBE1-04173D7F32D8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 подходах к разработке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всероссийских проверочных работ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 пяти предметам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для обучающихся 11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484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Демидова М.Ю., руководитель Центра педагогических измерений ФГБНУ «ФИП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36920" y="5084640"/>
            <a:ext cx="4535280" cy="15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24000" y="1563840"/>
            <a:ext cx="4446360" cy="26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4211640" y="3111480"/>
            <a:ext cx="4481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128160"/>
            <a:ext cx="7861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ы научного позн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3640" y="1273320"/>
            <a:ext cx="3961080" cy="53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24000" y="4659480"/>
            <a:ext cx="443232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Прямоугольник 2"/>
          <p:cNvSpPr/>
          <p:nvPr/>
        </p:nvSpPr>
        <p:spPr>
          <a:xfrm>
            <a:off x="466560" y="1557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онимание фундаментальных опы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амостоятельное планирование исследов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контекст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559040" cy="46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481640" y="2897280"/>
            <a:ext cx="4576680" cy="7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0" name="Picture 4" descr=""/>
          <p:cNvPicPr/>
          <p:nvPr/>
        </p:nvPicPr>
        <p:blipFill>
          <a:blip r:embed="rId3"/>
          <a:stretch/>
        </p:blipFill>
        <p:spPr>
          <a:xfrm>
            <a:off x="4500720" y="3943440"/>
            <a:ext cx="4557600" cy="222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контролируют степень овладения знаниями и умениями базового курса биологии и проверяют сформированность у выпускников практико-ориентированной биологиче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азделы курса биологии: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Биология как наука. Методы научного познания», «Клетка», «Организм», «Вид», «Экосистемы», «Организм человека и его здоров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своение понятийного аппарата курса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методологическими ум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менение знаний при объяснении биологических процессов, явлений, а также решении элементарных биолог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умениями по работе с информацией биологического содерж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348000" y="3906720"/>
            <a:ext cx="5602320" cy="27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79280" y="1457280"/>
            <a:ext cx="534348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ктико-ориентированное содержание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788000" y="1550880"/>
            <a:ext cx="4130640" cy="51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31920" y="3651120"/>
            <a:ext cx="429408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1700280"/>
            <a:ext cx="7994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ключены задания по содержательным блокам: «Теоретические основы химии», «Неорганическая химия», «Органическая химия», «Методы познания в хим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кратким ответом проверяют на базовом уровне усвоение большинства элементов содержания, изучаемых в рамках основных тем курса химии 10-11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развернутым ответом проверяют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ставлять уравнения реакций, подтверждающих свойства веществ и/или взаимосвязь различных классов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ъяснять обусловленность свойств и способов получения веществ их составом и строе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ычислять массу или объем веществ, участвующих в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Источники географическ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Миров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родопользование и гео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егионы и 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Географ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 работе провер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нание географических явлений и процессов в геосферах и географических особенностей природы населения и хозяйства отдельных территор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анализировать географическую информацию, представленную в различных форм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пособность применять полученные в школе географические знания для объяснения различных событий и явлений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кация доку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убликация документов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, регламентирующих разработку ВПР-11 по пяти предме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исания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дификаторы проверяемых элементов содержания и требований к уровню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разцы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нец ноября 2016 года, сайт ФГБНУ «ФИ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 ВПР не требует организации специальной подготов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26920" y="2637000"/>
            <a:ext cx="760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1e4649"/>
                </a:solidFill>
                <a:latin typeface="Garamond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18920" y="7560"/>
            <a:ext cx="67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Р-11 в 201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39640" y="1484280"/>
            <a:ext cx="813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Распоряжение Рособрнадзора №2322-05 от 30.08.201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«Об утверждении графиков проведения мероприятий, направленных на исследование качества образования на 2016-2017 год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График проведения всероссийских проверочных работ в 11 клас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76360" y="3789360"/>
          <a:ext cx="6095880" cy="2224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я 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дура подготовки вариантов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проекта кодификатора, описания всероссийской проверочной работы по предмету и образца вариа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фокус-групп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профессиональном сообществе, экспертиза документов, регламентирующих разработку ВП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Публикация описаний, кодификаторов и образцов вариа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вариантов ВПР по 5 предметам, проведение содержательных и тестологических экспертиз. Подготовка оригинал-мак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1. Назначение В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ПР-11 предназначена для итоговой оценки учебной подготовки выпускников, изучавших школьный курс данного предмета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 базовом уровне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2. Документ, определяющий содержание ВП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Федеральный компонент государственного образовательного стандарта среднего (полного) общего образования по предмету, базовый уровень (приказ Минобразования России от 05.03.2004 № 108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3. Время выполнения работы – 9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4. Уровни сложности зад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базовый уровень  (порядка 60% от максимального бал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вышенный уровень (порядка 40% от максимального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5. Формы заданий – с кратким и развернутым ответом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используются модели, не предназначенные для бланковой технологии). Использование контекстных заданий и дополнительных справочных 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6.  Содержание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наиболее значимые элементы содержания всех разделов предметного ку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7. Количество заданий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до 20 заданий в вариа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412640"/>
            <a:ext cx="799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школьниками базовыми историческими зна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ыт применения историко-культурного подхода к оценке социаль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применять исторические знания для осмысления сущности обществен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искать, анализировать, сопоставлять и оценивать содержащуюся в различных источниках информацию о событиях и явлениях прошлого</a:t>
            </a:r>
            <a:r>
              <a:rPr b="0" lang="ru-RU" sz="16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15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</a:rPr>
              <a:t>история России с древнейших времён до наших дней и истории родного края.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(Знания по всеобщей истории проверяются в работе только в контексте истории Ро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знание учащимися истории,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и культура родного края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53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тивность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75280" cy="545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483920"/>
            <a:ext cx="799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ять групп  заданий, оценивающих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онимать смысл изученных физических понятий, величин, законов, мод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писывать и объяснять физические явления и свойства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бъяснять устройство и принцип действия технических о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Делать выводы на основе экспериментальных данных, планировать ис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Воспринимать и оценивать информацию физического содержания (работа с текс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роверка фундаментальных принципов и законов, наиболее значимых элементов содержания из всех разделов курса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6-10-28T05:16:37Z</dcterms:modified>
  <cp:revision>527</cp:revision>
  <dc:subject/>
  <dc:title>Презентация PowerPoint</dc:title>
</cp:coreProperties>
</file>